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C4625-D415-4ED9-A4B0-4C4C89E6D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967B8-DB2E-4A7A-A7D2-0ADFB48EF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5A6A0-E310-478A-A377-CFF765452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0314A-351F-400F-AF49-C0DD45E77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77149-EB38-4952-9B29-09654E35D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DF6A2B-A862-4841-BFFA-B589FB47B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82B1B-3BDC-412C-9856-D84577C6D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1"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B6B5F-811C-49B8-89B1-F1AA89FA3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C35B8-98F7-4750-8091-EEB611F8D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A7939-55E4-43FF-85EF-BE9CE4F47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AF874-AC1D-4E55-9DED-7E931EDEE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FBEA4-F5B4-45C4-B875-76213D652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1AE85-EC92-4348-BF9A-166451882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5116D-442A-4B6C-8A68-D75B60399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4E8AD-9A02-4DE2-9077-7E0D512B2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0"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1D5A6-5931-470B-8D00-622D1BEE4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50874-3901-4D3B-8A5D-D7D9F64D4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8"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08B9F-46B9-4B2A-B851-2A5DC2873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A4BC99-B983-4676-804D-52735FA51E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86507-7CE0-4EAA-8D87-915A3C9724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5291D3-BCB2-4AAC-A4F8-172255AC28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7A1EA-2DA1-4975-BC79-8A22F7321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E9615F-1FC9-48FC-9D2F-A79CACABCD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CA767-6F7A-4B64-848D-D2A85AC7D7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049B9-C4E9-47B1-909B-9A0FC154EC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F976E-BC98-415F-84C3-056AE25AE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8BA83-1F34-4B08-95A1-2C89D4513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1E37B-4FB5-44CC-9BED-EFA7688776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CA0C9C-5C06-46E1-9182-391859B241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80C94D-03F5-4536-9E87-C7A80BDC37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37F33E-823B-4198-89F8-964D17FD25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AE900C-B2F3-4D0F-81D0-1DADEF1C0E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A8F7B-ACCD-49E3-A14A-DEC94D46D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1"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A121FA-C268-413B-B2D1-7C38D9B13A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3"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FFD78A-A7D3-4AFD-A092-36569A7918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DCF282-05C8-4854-A3C2-9E715D9B70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3C56AB-9F38-4682-A3B5-6E34AEFFE7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1AC153-671D-409B-92B1-6BA738CCC4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83E76-39B2-4838-BB8E-7C20224D8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2197DF-DE3F-4B12-B74F-7C7CFF1B6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6F789-F4CB-4F82-A98C-D4081B8F91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2"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E653A6-25A2-4095-9F67-0E1700C427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291BFB-461F-4E62-8858-847A9CC999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B5DED-D5F8-4E2C-8662-527138BDE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00"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7C117D-96D6-4FD3-861D-7060E3336B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958DC3-0163-467B-B4EE-C9D6D0F61D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2"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623620-602F-47E9-BC45-F22AD04BB7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4"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C17E2B-FDF2-4490-85F7-BB68E00AFF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D3D2F2-CD71-4BE0-95AF-24CBBC752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A6A2EE-D9B0-44E1-B573-1CC345B145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299543-E863-424A-B30A-25871E6005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2F391-217A-4780-AF66-0B1B48895B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57905-084B-4011-9CCE-0D52F7CAF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68745-46A7-41A2-A12E-5CF64828D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6EF4-EE5D-4DCB-8F39-FF0946E29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3"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72E321-D821-4E78-BDB6-9D058D401E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6B157E-F20A-4F3D-8917-8B256E9BA8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41"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978444-5762-4BBA-8FD6-917D389EAD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1C99DB-3CBF-4BF4-B50B-FA94C89AD6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B12BD0-9E4D-4E67-B61B-62D1CB8642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5"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C40146-8B2B-4C00-880D-4750CE6F40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A1A07E-B834-4FDF-9BE1-6448BA9BF2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225050-3EB0-4191-81CD-2FEBD64225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0CF1BA-D9F0-480E-B5FC-86944007CE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5FDD8-E7CD-4A9E-9A34-1DDDE55CB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9A1C-86D7-4CD5-8E61-C4BCB4954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A44AE9-7960-4848-A1D2-75BFBE86C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D19E7-7B19-4059-9A30-B6583B2D3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4"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6A0536-08B7-4A43-9CA1-3170D4C52A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BFD61F-D434-4DC0-A566-4A358C79C4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82"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29D9F6-AA34-437C-A5FF-2B0D5E5FF8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B3F41E-E305-4121-85EF-26D74324FE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4"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D247A9-DD57-4679-9B9B-3313CE0D48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6"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5AF17C-C8D7-4D3E-B308-27DE3694BE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8"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1BF7D6-62A6-4DF5-B9AE-6050E4049A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FFEDAB-670F-4608-8EE5-4AC0A48F06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79C42-EB3A-4A19-B034-8B8710D25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9BC498-5CAA-4868-BCDC-FACA8EE993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B021DA-DD0A-41EA-8ABC-5DAB7FF440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01345E-1293-492C-A84D-804BAC2316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792E87-84C9-4ECF-9CE7-3E153A470E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5"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B45606-E404-4C1F-A153-33C4643230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77758B-845D-4263-A74C-686218EC6F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23"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63BD88-0ACB-40BE-9333-5FA0FB3CEAD8}"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3A4D66-2307-4D2C-9742-C2CCA8331D27}"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30200" y="4124160"/>
            <a:ext cx="9212400" cy="4988160"/>
          </a:xfrm>
          <a:prstGeom prst="rect">
            <a:avLst/>
          </a:prstGeom>
          <a:noFill/>
          <a:ln w="0">
            <a:noFill/>
          </a:ln>
        </p:spPr>
        <p:txBody>
          <a:bodyPr lIns="50760" rIns="50760" tIns="50760" bIns="50760" anchor="t">
            <a:normAutofit/>
          </a:bodyPr>
          <a:p>
            <a:pPr marL="343080" indent="0"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Click to edit the outline text format</a:t>
            </a:r>
            <a:endParaRPr b="0" lang="en-US" sz="2200" spc="-1" strike="noStrike">
              <a:solidFill>
                <a:srgbClr val="333333"/>
              </a:solidFill>
              <a:latin typeface="FreeSans"/>
            </a:endParaRPr>
          </a:p>
          <a:p>
            <a:pPr lvl="1"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cond Outline Level</a:t>
            </a:r>
            <a:endParaRPr b="0" lang="en-US" sz="2200" spc="-1" strike="noStrike">
              <a:solidFill>
                <a:srgbClr val="333333"/>
              </a:solidFill>
              <a:latin typeface="FreeSans"/>
            </a:endParaRPr>
          </a:p>
          <a:p>
            <a:pPr lvl="2"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Third Outline Level</a:t>
            </a:r>
            <a:endParaRPr b="0" lang="en-US" sz="2200" spc="-1" strike="noStrike">
              <a:solidFill>
                <a:srgbClr val="333333"/>
              </a:solidFill>
              <a:latin typeface="FreeSans"/>
            </a:endParaRPr>
          </a:p>
          <a:p>
            <a:pPr lvl="3"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ourth Outline Level</a:t>
            </a:r>
            <a:endParaRPr b="0" lang="en-US" sz="2200" spc="-1" strike="noStrike">
              <a:solidFill>
                <a:srgbClr val="333333"/>
              </a:solidFill>
              <a:latin typeface="FreeSans"/>
            </a:endParaRPr>
          </a:p>
          <a:p>
            <a:pPr lvl="4"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ifth Outline Level</a:t>
            </a:r>
            <a:endParaRPr b="0" lang="en-US" sz="2200" spc="-1" strike="noStrike">
              <a:solidFill>
                <a:srgbClr val="333333"/>
              </a:solidFill>
              <a:latin typeface="FreeSans"/>
            </a:endParaRPr>
          </a:p>
          <a:p>
            <a:pPr lvl="5"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ixth Outline Level</a:t>
            </a:r>
            <a:endParaRPr b="0" lang="en-US" sz="2200" spc="-1" strike="noStrike">
              <a:solidFill>
                <a:srgbClr val="333333"/>
              </a:solidFill>
              <a:latin typeface="FreeSans"/>
            </a:endParaRPr>
          </a:p>
          <a:p>
            <a:pPr lvl="6"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venth Outline Level</a:t>
            </a:r>
            <a:endParaRPr b="0" lang="en-US" sz="2200" spc="-1" strike="noStrike">
              <a:solidFill>
                <a:srgbClr val="333333"/>
              </a:solidFill>
              <a:latin typeface="FreeSans"/>
            </a:endParaRPr>
          </a:p>
        </p:txBody>
      </p:sp>
      <p:sp>
        <p:nvSpPr>
          <p:cNvPr id="42" name="PlaceHolder 2"/>
          <p:cNvSpPr>
            <a:spLocks noGrp="1"/>
          </p:cNvSpPr>
          <p:nvPr>
            <p:ph type="title"/>
          </p:nvPr>
        </p:nvSpPr>
        <p:spPr>
          <a:xfrm>
            <a:off x="343080" y="744480"/>
            <a:ext cx="9378720" cy="2881440"/>
          </a:xfrm>
          <a:prstGeom prst="rect">
            <a:avLst/>
          </a:prstGeom>
          <a:noFill/>
          <a:ln w="0">
            <a:noFill/>
          </a:ln>
        </p:spPr>
        <p:txBody>
          <a:bodyPr lIns="50760" rIns="50760" tIns="50760" bIns="50760" anchor="ctr" anchorCtr="1">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300" spc="-1" strike="noStrike">
                <a:solidFill>
                  <a:srgbClr val="333333"/>
                </a:solidFill>
                <a:latin typeface="FreeSans"/>
              </a:rPr>
              <a:t>Click to edit the title text format</a:t>
            </a:r>
            <a:endParaRPr b="0" lang="en-US" sz="5300" spc="-1" strike="noStrike">
              <a:solidFill>
                <a:srgbClr val="333333"/>
              </a:solidFill>
              <a:latin typeface="FreeSans"/>
            </a:endParaRPr>
          </a:p>
        </p:txBody>
      </p:sp>
      <p:grpSp>
        <p:nvGrpSpPr>
          <p:cNvPr id="43" name=""/>
          <p:cNvGrpSpPr/>
          <p:nvPr/>
        </p:nvGrpSpPr>
        <p:grpSpPr>
          <a:xfrm>
            <a:off x="-15840" y="7023240"/>
            <a:ext cx="10113480" cy="525240"/>
            <a:chOff x="-15840" y="7023240"/>
            <a:chExt cx="10113480" cy="525240"/>
          </a:xfrm>
        </p:grpSpPr>
        <p:pic>
          <p:nvPicPr>
            <p:cNvPr id="44" name="" descr=""/>
            <p:cNvPicPr/>
            <p:nvPr/>
          </p:nvPicPr>
          <p:blipFill>
            <a:blip r:embed="rId2"/>
            <a:stretch/>
          </p:blipFill>
          <p:spPr>
            <a:xfrm>
              <a:off x="19080" y="7023240"/>
              <a:ext cx="10078560" cy="525240"/>
            </a:xfrm>
            <a:prstGeom prst="rect">
              <a:avLst/>
            </a:prstGeom>
            <a:ln w="0">
              <a:noFill/>
            </a:ln>
          </p:spPr>
        </p:pic>
        <p:pic>
          <p:nvPicPr>
            <p:cNvPr id="45" name="" descr=""/>
            <p:cNvPicPr/>
            <p:nvPr/>
          </p:nvPicPr>
          <p:blipFill>
            <a:blip r:embed="rId3"/>
            <a:stretch/>
          </p:blipFill>
          <p:spPr>
            <a:xfrm>
              <a:off x="-15840" y="7023240"/>
              <a:ext cx="10078560" cy="525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57900"/>
                </a:solidFill>
                <a:latin typeface="Bitstream Vera Sans"/>
              </a:rPr>
              <a:t>Click to edit the title text format</a:t>
            </a:r>
            <a:endParaRPr b="1" lang="en-US" sz="4100" spc="-1" strike="noStrike">
              <a:solidFill>
                <a:srgbClr val="f57900"/>
              </a:solidFill>
              <a:latin typeface="Bitstream Vera Sans"/>
            </a:endParaRPr>
          </a:p>
        </p:txBody>
      </p:sp>
      <p:sp>
        <p:nvSpPr>
          <p:cNvPr id="84"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86"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87"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F71C01-3EDE-4D5C-A33B-AD3B28C7BD99}"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25"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127"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128" name="PlaceHolder 5"/>
          <p:cNvSpPr>
            <a:spLocks noGrp="1"/>
          </p:cNvSpPr>
          <p:nvPr>
            <p:ph type="sldNum" idx="9"/>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D689B1-E6E8-4E1D-B7DA-2EBA0AAC62B7}"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2e3436"/>
                </a:solidFill>
                <a:latin typeface="Bitstream Vera Sans"/>
              </a:rPr>
              <a:t>Click to edit the title text format</a:t>
            </a:r>
            <a:endParaRPr b="1" lang="en-US" sz="4100" spc="-1" strike="noStrike">
              <a:solidFill>
                <a:srgbClr val="2e3436"/>
              </a:solidFill>
              <a:latin typeface="Bitstream Vera Sans"/>
            </a:endParaRPr>
          </a:p>
        </p:txBody>
      </p:sp>
      <p:sp>
        <p:nvSpPr>
          <p:cNvPr id="166"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7" name="PlaceHolder 3"/>
          <p:cNvSpPr>
            <a:spLocks noGrp="1"/>
          </p:cNvSpPr>
          <p:nvPr>
            <p:ph type="dt" idx="10"/>
          </p:nvPr>
        </p:nvSpPr>
        <p:spPr>
          <a:xfrm>
            <a:off x="531720" y="7198920"/>
            <a:ext cx="2346480" cy="3589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date/time&gt;</a:t>
            </a:r>
            <a:endParaRPr b="0" lang="en-US" sz="1400" spc="-1" strike="noStrike">
              <a:solidFill>
                <a:srgbClr val="000000"/>
              </a:solidFill>
              <a:latin typeface="Times New Roman"/>
            </a:endParaRPr>
          </a:p>
        </p:txBody>
      </p:sp>
      <p:sp>
        <p:nvSpPr>
          <p:cNvPr id="168" name="PlaceHolder 4"/>
          <p:cNvSpPr>
            <a:spLocks noGrp="1"/>
          </p:cNvSpPr>
          <p:nvPr>
            <p:ph type="ftr" idx="11"/>
          </p:nvPr>
        </p:nvSpPr>
        <p:spPr>
          <a:xfrm>
            <a:off x="3465000" y="7198920"/>
            <a:ext cx="3194280" cy="3589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footer&gt;</a:t>
            </a:r>
            <a:endParaRPr b="0" lang="en-US" sz="1400" spc="-1" strike="noStrike">
              <a:solidFill>
                <a:srgbClr val="000000"/>
              </a:solidFill>
              <a:latin typeface="Times New Roman"/>
            </a:endParaRPr>
          </a:p>
        </p:txBody>
      </p:sp>
      <p:sp>
        <p:nvSpPr>
          <p:cNvPr id="169" name="PlaceHolder 5"/>
          <p:cNvSpPr>
            <a:spLocks noGrp="1"/>
          </p:cNvSpPr>
          <p:nvPr>
            <p:ph type="sldNum" idx="12"/>
          </p:nvPr>
        </p:nvSpPr>
        <p:spPr>
          <a:xfrm>
            <a:off x="9180000" y="7020000"/>
            <a:ext cx="53820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CA" sz="2000" spc="-1" strike="noStrike">
                <a:solidFill>
                  <a:srgbClr val="2e3436"/>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39771E0-98B6-48A1-859E-40F45D491A2B}" type="slidenum">
              <a:rPr b="0" lang="en-CA" sz="2000" spc="-1" strike="noStrike">
                <a:solidFill>
                  <a:srgbClr val="2e3436"/>
                </a:solidFill>
                <a:latin typeface="Times New Roman"/>
                <a:ea typeface="DejaVu San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6e6e6"/>
                </a:solidFill>
                <a:latin typeface="Times New Roman"/>
              </a:rPr>
              <a:t>Click to edit the title text format</a:t>
            </a:r>
            <a:endParaRPr b="1" lang="en-US" sz="4100" spc="-1" strike="noStrike">
              <a:solidFill>
                <a:srgbClr val="e6e6e6"/>
              </a:solidFill>
              <a:latin typeface="Times New Roman"/>
            </a:endParaRPr>
          </a:p>
        </p:txBody>
      </p:sp>
      <p:sp>
        <p:nvSpPr>
          <p:cNvPr id="207"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08" name="PlaceHolder 3"/>
          <p:cNvSpPr>
            <a:spLocks noGrp="1"/>
          </p:cNvSpPr>
          <p:nvPr>
            <p:ph type="dt" idx="13"/>
          </p:nvPr>
        </p:nvSpPr>
        <p:spPr>
          <a:xfrm>
            <a:off x="4054320" y="7380360"/>
            <a:ext cx="2346480" cy="1778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date/time&gt;</a:t>
            </a:r>
            <a:endParaRPr b="0" lang="en-US" sz="1200" spc="-1" strike="noStrike">
              <a:solidFill>
                <a:srgbClr val="000000"/>
              </a:solidFill>
              <a:latin typeface="Times New Roman"/>
            </a:endParaRPr>
          </a:p>
        </p:txBody>
      </p:sp>
      <p:sp>
        <p:nvSpPr>
          <p:cNvPr id="209" name="PlaceHolder 4"/>
          <p:cNvSpPr>
            <a:spLocks noGrp="1"/>
          </p:cNvSpPr>
          <p:nvPr>
            <p:ph type="ftr" idx="14"/>
          </p:nvPr>
        </p:nvSpPr>
        <p:spPr>
          <a:xfrm>
            <a:off x="178920" y="7380360"/>
            <a:ext cx="3194280" cy="1778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footer&gt;</a:t>
            </a:r>
            <a:endParaRPr b="0" lang="en-US" sz="1200" spc="-1" strike="noStrike">
              <a:solidFill>
                <a:srgbClr val="000000"/>
              </a:solidFill>
              <a:latin typeface="Times New Roman"/>
            </a:endParaRPr>
          </a:p>
        </p:txBody>
      </p:sp>
      <p:sp>
        <p:nvSpPr>
          <p:cNvPr id="210" name="PlaceHolder 5"/>
          <p:cNvSpPr>
            <a:spLocks noGrp="1"/>
          </p:cNvSpPr>
          <p:nvPr>
            <p:ph type="sldNum" idx="15"/>
          </p:nvPr>
        </p:nvSpPr>
        <p:spPr>
          <a:xfrm>
            <a:off x="7199280" y="7380360"/>
            <a:ext cx="2346480" cy="1778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2D11F1-6D0E-40DD-A486-E234C7256565}" type="slidenum">
              <a:rPr b="0" lang="en-CA" sz="1200" spc="-1" strike="noStrike">
                <a:solidFill>
                  <a:srgbClr val="999999"/>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48"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6"/>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50" name="PlaceHolder 4"/>
          <p:cNvSpPr>
            <a:spLocks noGrp="1"/>
          </p:cNvSpPr>
          <p:nvPr>
            <p:ph type="ftr" idx="17"/>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51" name="PlaceHolder 5"/>
          <p:cNvSpPr>
            <a:spLocks noGrp="1"/>
          </p:cNvSpPr>
          <p:nvPr>
            <p:ph type="sldNum" idx="18"/>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0E82B6-C094-4AFC-BAE4-1EB6C06C2A96}"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89"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19"/>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91" name="PlaceHolder 4"/>
          <p:cNvSpPr>
            <a:spLocks noGrp="1"/>
          </p:cNvSpPr>
          <p:nvPr>
            <p:ph type="ftr" idx="20"/>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92" name="PlaceHolder 5"/>
          <p:cNvSpPr>
            <a:spLocks noGrp="1"/>
          </p:cNvSpPr>
          <p:nvPr>
            <p:ph type="sldNum" idx="21"/>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2B4E91-FFBD-4D29-842E-C85D1C462CEA}"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Edison Approach*: </a:t>
            </a:r>
            <a:br>
              <a:rPr sz="4100"/>
            </a:br>
            <a:r>
              <a:rPr b="1" lang="en-CA" sz="4100" spc="-1" strike="noStrike">
                <a:solidFill>
                  <a:srgbClr val="f57900"/>
                </a:solidFill>
                <a:latin typeface="Bitstream Vera Sans"/>
              </a:rPr>
              <a:t>Science helps the office</a:t>
            </a:r>
            <a:endParaRPr b="1" lang="en-US" sz="4100" spc="-1" strike="noStrike">
              <a:solidFill>
                <a:srgbClr val="f57900"/>
              </a:solidFill>
              <a:latin typeface="Bitstream Vera Sans"/>
            </a:endParaRPr>
          </a:p>
        </p:txBody>
      </p:sp>
      <p:sp>
        <p:nvSpPr>
          <p:cNvPr id="330" name="PlaceHolder 2"/>
          <p:cNvSpPr>
            <a:spLocks noGrp="1"/>
          </p:cNvSpPr>
          <p:nvPr>
            <p:ph type="subTitle"/>
          </p:nvPr>
        </p:nvSpPr>
        <p:spPr>
          <a:xfrm>
            <a:off x="502920" y="1744200"/>
            <a:ext cx="9070920" cy="532620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John Nash</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October 6, 2011</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Scientific software and ideas can help everyday tasks and save us time;</a:t>
            </a: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Or let us have some fu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Arial"/>
              </a:rPr>
              <a:t>* Edison story about automating telegraph repeater so he could sleep</a:t>
            </a:r>
            <a:endParaRPr b="0" lang="en-US" sz="2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068BCB7-094A-450F-8A98-CAB3D4A1E390}"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02920" y="214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icture it</a:t>
            </a:r>
            <a:endParaRPr b="1" lang="en-US" sz="4100" spc="-1" strike="noStrike">
              <a:solidFill>
                <a:srgbClr val="f57900"/>
              </a:solidFill>
              <a:latin typeface="Bitstream Vera Sans"/>
            </a:endParaRPr>
          </a:p>
        </p:txBody>
      </p:sp>
      <p:sp>
        <p:nvSpPr>
          <p:cNvPr id="348" name=""/>
          <p:cNvSpPr/>
          <p:nvPr/>
        </p:nvSpPr>
        <p:spPr>
          <a:xfrm>
            <a:off x="1427040" y="1511280"/>
            <a:ext cx="3846600" cy="370836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a:off x="287280" y="258300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a:off x="287280" y="236376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a:off x="1712880" y="2336760"/>
            <a:ext cx="170964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flipH="1">
            <a:off x="3419280" y="2336760"/>
            <a:ext cx="156996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flipV="1">
            <a:off x="3363840" y="1511280"/>
            <a:ext cx="1800" cy="1101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392640" y="2060640"/>
            <a:ext cx="2854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55" name=""/>
          <p:cNvSpPr/>
          <p:nvPr/>
        </p:nvSpPr>
        <p:spPr>
          <a:xfrm>
            <a:off x="5415120" y="2198520"/>
            <a:ext cx="85392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ils</a:t>
            </a:r>
            <a:endParaRPr b="0" lang="en-US" sz="1800" spc="-1" strike="noStrike">
              <a:solidFill>
                <a:srgbClr val="000000"/>
              </a:solidFill>
              <a:latin typeface="Arial"/>
            </a:endParaRPr>
          </a:p>
        </p:txBody>
      </p:sp>
      <p:sp>
        <p:nvSpPr>
          <p:cNvPr id="356" name=""/>
          <p:cNvSpPr/>
          <p:nvPr/>
        </p:nvSpPr>
        <p:spPr>
          <a:xfrm>
            <a:off x="3251160" y="3030480"/>
            <a:ext cx="5698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57" name=""/>
          <p:cNvSpPr/>
          <p:nvPr/>
        </p:nvSpPr>
        <p:spPr>
          <a:xfrm>
            <a:off x="2709720" y="2774880"/>
            <a:ext cx="4273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338560" y="2060640"/>
            <a:ext cx="71244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59" name=""/>
          <p:cNvSpPr/>
          <p:nvPr/>
        </p:nvSpPr>
        <p:spPr>
          <a:xfrm>
            <a:off x="4162320" y="2062080"/>
            <a:ext cx="71280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60"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5435640" y="1639800"/>
            <a:ext cx="4425840" cy="58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o  r sin(</a:t>
            </a:r>
            <a:r>
              <a:rPr b="0" lang="en-CA" sz="3200" spc="-1" strike="noStrike">
                <a:solidFill>
                  <a:srgbClr val="000000"/>
                </a:solidFill>
                <a:latin typeface="Times New Roman"/>
                <a:ea typeface="Times New Roman"/>
              </a:rPr>
              <a:t>Ф) = 5280'/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nd  r * Ф = 5281'/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e., 2 eqns, 2 unknowns]</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1 mile = 5281')</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 = 4' + 8.5”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   </a:t>
            </a:r>
            <a:r>
              <a:rPr b="0" lang="en-CA" sz="3200" spc="-1" strike="noStrike">
                <a:solidFill>
                  <a:srgbClr val="000000"/>
                </a:solidFill>
                <a:latin typeface="Times New Roman"/>
                <a:ea typeface="Times New Roman"/>
              </a:rPr>
              <a:t>+  (r – r * cos(Ф))</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6F56260-4F8C-4196-AD43-637D600F0DDD}"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427040" y="1079640"/>
            <a:ext cx="6672240" cy="611964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1922400" y="2440080"/>
            <a:ext cx="29656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flipH="1">
            <a:off x="4886280" y="2440080"/>
            <a:ext cx="27208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flipV="1">
            <a:off x="4789440" y="1079640"/>
            <a:ext cx="1800" cy="18158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4838760" y="1986120"/>
            <a:ext cx="49536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67" name=""/>
          <p:cNvSpPr/>
          <p:nvPr/>
        </p:nvSpPr>
        <p:spPr>
          <a:xfrm>
            <a:off x="4591080" y="3586320"/>
            <a:ext cx="98748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68" name=""/>
          <p:cNvSpPr/>
          <p:nvPr/>
        </p:nvSpPr>
        <p:spPr>
          <a:xfrm>
            <a:off x="3651120" y="3165480"/>
            <a:ext cx="74160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p:txBody>
      </p:sp>
      <p:sp>
        <p:nvSpPr>
          <p:cNvPr id="369" name=""/>
          <p:cNvSpPr/>
          <p:nvPr/>
        </p:nvSpPr>
        <p:spPr>
          <a:xfrm>
            <a:off x="3008160" y="1986120"/>
            <a:ext cx="12369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0" name=""/>
          <p:cNvSpPr/>
          <p:nvPr/>
        </p:nvSpPr>
        <p:spPr>
          <a:xfrm>
            <a:off x="6172200" y="1987560"/>
            <a:ext cx="12351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1" name=""/>
          <p:cNvSpPr/>
          <p:nvPr/>
        </p:nvSpPr>
        <p:spPr>
          <a:xfrm>
            <a:off x="1979640" y="2519280"/>
            <a:ext cx="55800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flipH="1" flipV="1">
            <a:off x="4857840" y="1077480"/>
            <a:ext cx="2703600" cy="144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7AD0D274-C142-4742-BAA7-84DF189257B8}"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rude approximation</a:t>
            </a:r>
            <a:endParaRPr b="1" lang="en-US" sz="4100" spc="-1" strike="noStrike">
              <a:solidFill>
                <a:srgbClr val="f57900"/>
              </a:solidFill>
              <a:latin typeface="Bitstream Vera Sans"/>
            </a:endParaRPr>
          </a:p>
        </p:txBody>
      </p:sp>
      <p:sp>
        <p:nvSpPr>
          <p:cNvPr id="374" name="PlaceHolder 2"/>
          <p:cNvSpPr>
            <a:spLocks noGrp="1"/>
          </p:cNvSpPr>
          <p:nvPr>
            <p:ph/>
          </p:nvPr>
        </p:nvSpPr>
        <p:spPr>
          <a:xfrm>
            <a:off x="468000" y="1800000"/>
            <a:ext cx="9070920" cy="501948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5281/2)^2 = d^2 + (5280/2)^2 where d=(A – w)</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 = sqrt(2640.5^2-2640^2) = sqrt(2640.25) = </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 51.3833630662688 fee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w = 4' 8.5” = 4 +8.5/12 feet = 4.7083333333333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  56.0916963996022 feet </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 we want a circular arc.</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e this gives us r ~= 70000, </a:t>
            </a:r>
            <a:r>
              <a:rPr b="0" lang="en-CA" sz="3200" spc="-1" strike="noStrike">
                <a:solidFill>
                  <a:srgbClr val="000000"/>
                </a:solidFill>
                <a:latin typeface="Times New Roman"/>
                <a:ea typeface="Times New Roman"/>
              </a:rPr>
              <a:t>Ф ~= 0.04 </a:t>
            </a:r>
            <a:r>
              <a:rPr b="0" lang="en-C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D1E5A3B-2712-44DC-AFA3-B5ADBBF669E5}"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7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d)^2 = r^2 – 2640^2, solve for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2640^2+d^2)/(2*d)  = 67845.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Ф = 2640.5/r = 0.0389 radians (NOT degre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t is about 2.23 degrees = 0.0389*180/ pi()</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439B048-3847-4248-9782-A786346409C1}"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 should we solve this?</a:t>
            </a:r>
            <a:endParaRPr b="1" lang="en-US" sz="4100" spc="-1" strike="noStrike">
              <a:solidFill>
                <a:srgbClr val="f57900"/>
              </a:solidFill>
              <a:latin typeface="Bitstream Vera Sans"/>
            </a:endParaRPr>
          </a:p>
        </p:txBody>
      </p:sp>
      <p:sp>
        <p:nvSpPr>
          <p:cNvPr id="37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2 equations with 2 unknowns “should be solvabl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equations may not have closed form i.e., formula, solutions ==&gt; iterative approa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Reduce to 1 equation that will allow iter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Clever algebra gives  x_new = x_old + adjustment where the adjustment keeps getting smaller</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Newton's method in either r or </a:t>
            </a:r>
            <a:r>
              <a:rPr b="0" lang="en-CA" sz="2800" spc="-1" strike="noStrike">
                <a:solidFill>
                  <a:srgbClr val="000000"/>
                </a:solidFill>
                <a:latin typeface="Times New Roman"/>
                <a:ea typeface="Times New Roman"/>
              </a:rPr>
              <a:t>Ф</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 Reduce “error” on both equations at onc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CCCEB50-2E21-4E75-85C0-BDA78084B266}"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r</a:t>
            </a:r>
            <a:endParaRPr b="1" lang="en-US" sz="4100" spc="-1" strike="noStrike">
              <a:solidFill>
                <a:srgbClr val="f57900"/>
              </a:solidFill>
              <a:latin typeface="Bitstream Vera Sans"/>
            </a:endParaRPr>
          </a:p>
        </p:txBody>
      </p:sp>
      <p:sp>
        <p:nvSpPr>
          <p:cNvPr id="38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ename p = </a:t>
            </a:r>
            <a:r>
              <a:rPr b="0" lang="en-CA" sz="3200" spc="-1" strike="noStrike">
                <a:solidFill>
                  <a:srgbClr val="000000"/>
                </a:solidFill>
                <a:latin typeface="Times New Roman"/>
                <a:ea typeface="Times New Roman"/>
              </a:rPr>
              <a:t>Ф</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ave p = 2640.5/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r * sin(2640.5/r) – 2640 = 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 root using a rootfinder e.g., uniroot() in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s r = 78335.08 in 7 iteration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p = 0.03370776, A = 49.20679</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98AC99B-6345-4740-B0E3-B673279D7E67}"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720720" y="179280"/>
            <a:ext cx="8459640" cy="7199280"/>
          </a:xfrm>
          <a:prstGeom prst="rect">
            <a:avLst/>
          </a:prstGeom>
          <a:ln w="0">
            <a:noFill/>
          </a:ln>
        </p:spPr>
      </p:pic>
      <p:sp>
        <p:nvSpPr>
          <p:cNvPr id="2" name="PlaceHolder 1"/>
          <p:cNvSpPr>
            <a:spLocks noGrp="1"/>
          </p:cNvSpPr>
          <p:nvPr>
            <p:ph type="sldNum" idx="6"/>
          </p:nvPr>
        </p:nvSpPr>
        <p:spPr/>
        <p:txBody>
          <a:bodyPr/>
          <a:p>
            <a:fld id="{50C4AD1B-0B88-40F2-8905-971D7F0F06AB}"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p</a:t>
            </a:r>
            <a:endParaRPr b="1" lang="en-US" sz="4100" spc="-1" strike="noStrike">
              <a:solidFill>
                <a:srgbClr val="f57900"/>
              </a:solidFill>
              <a:latin typeface="Bitstream Vera Sans"/>
            </a:endParaRPr>
          </a:p>
        </p:txBody>
      </p:sp>
      <p:sp>
        <p:nvSpPr>
          <p:cNvPr id="383" name="PlaceHolder 2"/>
          <p:cNvSpPr>
            <a:spLocks noGrp="1"/>
          </p:cNvSpPr>
          <p:nvPr>
            <p:ph/>
          </p:nvPr>
        </p:nvSpPr>
        <p:spPr>
          <a:xfrm>
            <a:off x="539280" y="1490400"/>
            <a:ext cx="9070920" cy="5321160"/>
          </a:xfrm>
          <a:prstGeom prst="rect">
            <a:avLst/>
          </a:prstGeom>
          <a:noFill/>
          <a:ln w="0">
            <a:noFill/>
          </a:ln>
        </p:spPr>
        <p:txBody>
          <a:bodyPr lIns="0" rIns="0" tIns="28080" bIns="0" anchor="t">
            <a:normAutofit fontScale="98000"/>
          </a:bodyPr>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in(p)/p – 5280/5281 = 0</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niroot bounded by 0.03, 0.05</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78297.9   p= 0.03372376    A= 49.22791</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 quite the same.</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ewton's method for equations i.e., want f(x*)=0</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ovide x</a:t>
            </a:r>
            <a:r>
              <a:rPr b="0" lang="en-CA" sz="3200" spc="-1" strike="noStrike" baseline="-33000">
                <a:solidFill>
                  <a:srgbClr val="000000"/>
                </a:solidFill>
                <a:latin typeface="Times New Roman"/>
              </a:rPr>
              <a:t>0</a:t>
            </a:r>
            <a:r>
              <a:rPr b="0" lang="en-CA" sz="3200" spc="-1" strike="noStrike">
                <a:solidFill>
                  <a:srgbClr val="000000"/>
                </a:solidFill>
                <a:latin typeface="Times New Roman"/>
              </a:rPr>
              <a:t>, then find x</a:t>
            </a:r>
            <a:r>
              <a:rPr b="0" lang="en-CA" sz="3200" spc="-1" strike="noStrike" baseline="-33000">
                <a:solidFill>
                  <a:srgbClr val="000000"/>
                </a:solidFill>
                <a:latin typeface="Times New Roman"/>
              </a:rPr>
              <a:t>k+1</a:t>
            </a:r>
            <a:r>
              <a:rPr b="0" lang="en-CA" sz="3200" spc="-1" strike="noStrike">
                <a:solidFill>
                  <a:srgbClr val="000000"/>
                </a:solidFill>
                <a:latin typeface="Times New Roman"/>
              </a:rPr>
              <a:t>= 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 – 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ere f'(x) is derivative of f(x) wrt x  (Calculus!)</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Can find formula with R's D() function or Maxima etc.</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18EE774-69E9-40CE-BF4F-2852EC88661D}"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1116000" y="179280"/>
            <a:ext cx="7920000" cy="7199280"/>
          </a:xfrm>
          <a:prstGeom prst="rect">
            <a:avLst/>
          </a:prstGeom>
          <a:ln w="0">
            <a:noFill/>
          </a:ln>
        </p:spPr>
      </p:pic>
      <p:sp>
        <p:nvSpPr>
          <p:cNvPr id="2" name="PlaceHolder 1"/>
          <p:cNvSpPr>
            <a:spLocks noGrp="1"/>
          </p:cNvSpPr>
          <p:nvPr>
            <p:ph type="sldNum" idx="6"/>
          </p:nvPr>
        </p:nvSpPr>
        <p:spPr/>
        <p:txBody>
          <a:bodyPr/>
          <a:p>
            <a:fld id="{9CB24E66-C7FE-4F5B-AEC2-8C1713CB6E2D}"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Both equations at once</a:t>
            </a:r>
            <a:endParaRPr b="1" lang="en-US" sz="4100" spc="-1" strike="noStrike">
              <a:solidFill>
                <a:srgbClr val="f57900"/>
              </a:solidFill>
              <a:latin typeface="Bitstream Vera Sans"/>
            </a:endParaRPr>
          </a:p>
        </p:txBody>
      </p:sp>
      <p:sp>
        <p:nvSpPr>
          <p:cNvPr id="386" name="PlaceHolder 2"/>
          <p:cNvSpPr>
            <a:spLocks noGrp="1"/>
          </p:cNvSpPr>
          <p:nvPr>
            <p:ph/>
          </p:nvPr>
        </p:nvSpPr>
        <p:spPr>
          <a:xfrm>
            <a:off x="502920" y="1768320"/>
            <a:ext cx="9070920" cy="5142240"/>
          </a:xfrm>
          <a:prstGeom prst="rect">
            <a:avLst/>
          </a:prstGeom>
          <a:noFill/>
          <a:ln w="0">
            <a:noFill/>
          </a:ln>
        </p:spPr>
        <p:txBody>
          <a:bodyPr lIns="0" rIns="0" tIns="28080" bIns="0" anchor="t">
            <a:normAutofit/>
          </a:bodyPr>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e1&lt;-r*sin(p)-2640;    e2&lt;-r*p-2640.5</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s&lt;-e1*e1+e2*e2</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inimize sum of squares with optim(), a Nelder-Mead routin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rPr>
              <a:t>ss = 5.7E-12, r = 78334.83, p = 0.03370787, A = 49.20693'</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 = 0,           r = 78335.08, p = 0.03370776, A = 49.20679 (r eq)</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6969510, r =  78297.9   p= 0.03372376    A= 49.22791 (p eq)</a:t>
            </a:r>
            <a:endParaRPr b="0" lang="en-US" sz="24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Note that it may be important which variable we us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88E9B74-FCC3-4388-86C3-0C8321CC8D84}"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Some topics</a:t>
            </a:r>
            <a:endParaRPr b="1" lang="en-US" sz="4100" spc="-1" strike="noStrike">
              <a:solidFill>
                <a:srgbClr val="f57900"/>
              </a:solidFill>
              <a:latin typeface="Bitstream Vera Sans"/>
            </a:endParaRPr>
          </a:p>
        </p:txBody>
      </p:sp>
      <p:sp>
        <p:nvSpPr>
          <p:cNvPr id="33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thly reports with changing data</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etty pictures, alias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e effects of minor terrorism by the Society for the Promotion of Math Anxiety</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orking out cost of casino warranty</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0AD4309-C66C-4BB2-8FDE-C83F48FA56E4}"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8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E4C069C-D2C4-49F6-9717-165A6FD9A99B}"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9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2B7B95F-0269-4E40-8427-81FF45FF2EA2}"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17640" y="631800"/>
            <a:ext cx="10078920" cy="7559640"/>
          </a:xfrm>
          <a:prstGeom prst="rect">
            <a:avLst/>
          </a:prstGeom>
          <a:ln w="0">
            <a:noFill/>
          </a:ln>
        </p:spPr>
      </p:pic>
      <p:sp>
        <p:nvSpPr>
          <p:cNvPr id="2" name="PlaceHolder 1"/>
          <p:cNvSpPr>
            <a:spLocks noGrp="1"/>
          </p:cNvSpPr>
          <p:nvPr>
            <p:ph type="sldNum" idx="6"/>
          </p:nvPr>
        </p:nvSpPr>
        <p:spPr/>
        <p:txBody>
          <a:bodyPr/>
          <a:p>
            <a:fld id="{0F337E4A-E3A9-440C-AC21-EEC9885E258E}"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Animation of solution</a:t>
            </a:r>
            <a:endParaRPr b="1" lang="en-US" sz="4100" spc="-1" strike="noStrike">
              <a:solidFill>
                <a:srgbClr val="f57900"/>
              </a:solidFill>
              <a:latin typeface="Bitstream Vera Sans"/>
            </a:endParaRPr>
          </a:p>
        </p:txBody>
      </p:sp>
      <p:sp>
        <p:nvSpPr>
          <p:cNvPr id="393"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se </a:t>
            </a:r>
            <a:r>
              <a:rPr b="1" lang="en-CA" sz="3200" spc="-1" strike="noStrike">
                <a:solidFill>
                  <a:srgbClr val="000000"/>
                </a:solidFill>
                <a:latin typeface="Times New Roman"/>
              </a:rPr>
              <a:t>rgl</a:t>
            </a:r>
            <a:r>
              <a:rPr b="0" lang="en-CA" sz="3200" spc="-1" strike="noStrike">
                <a:solidFill>
                  <a:srgbClr val="000000"/>
                </a:solidFill>
                <a:latin typeface="Times New Roman"/>
              </a:rPr>
              <a:t> packag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a Nelder-Mead minimiz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ses simple polytope operations</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ften very effective if quite crude and inefficient</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06205C23-4312-413E-9825-FC2358A0E098}"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asino warranties</a:t>
            </a:r>
            <a:endParaRPr b="1" lang="en-US" sz="4100" spc="-1" strike="noStrike">
              <a:solidFill>
                <a:srgbClr val="f57900"/>
              </a:solidFill>
              <a:latin typeface="Bitstream Vera Sans"/>
            </a:endParaRPr>
          </a:p>
        </p:txBody>
      </p:sp>
      <p:sp>
        <p:nvSpPr>
          <p:cNvPr id="39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casinos as a turnkey servic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to know daily return and offer a guarantee of “no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ederal law governs “insurance, but Provincial law governs “warranti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at is premium for warranty? Need to know rate of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is a statistical distribution issu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6CEFC21-F8A3-4FAB-A215-92F8D6E6A3C8}"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55560" y="274680"/>
            <a:ext cx="8802720" cy="7257960"/>
          </a:xfrm>
          <a:prstGeom prst="rect">
            <a:avLst/>
          </a:prstGeom>
          <a:noFill/>
          <a:ln w="0">
            <a:noFill/>
          </a:ln>
        </p:spPr>
        <p:style>
          <a:lnRef idx="0"/>
          <a:fillRef idx="0"/>
          <a:effectRef idx="0"/>
          <a:fontRef idx="minor"/>
        </p:style>
        <p:txBody>
          <a:bodyPr lIns="90000" rIns="90000" tIns="5652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15295 -11605  -9096  -6184  -4155  -4109  -3629  -2070   -997   -1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1]      0    616   3159   4464   4632   4904   5091   5207   5355   6217</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1]   8289   9115   9631  10004  11519  12472  12885  13135  13408  140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1]  14761  15499  16164  16242  16506  16640  17786  20031  20344  2076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41]  22617  23441  2931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2),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3287  3518  3851  4617  4674  4893  5227  5534  6380  6924  7204  724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3]  7400  7919  7990  8194  8236  8302  8648  9061  9232  9456  9699  978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5] 10057 10233 10471 10565 10794 10849 11159 11273 11417 11454 11480 1171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7] 13048 13327 13431 13824 15028 15281 15306 17403 183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stem(casino)                       &gt; stem(casino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he decimal point is 4 digit(s)      The decimal point is 3 digit(s)</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o the right of the |                to the right of the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1 | 5 </a:t>
            </a:r>
            <a:r>
              <a:rPr b="1" lang="en-CA" sz="1500" spc="-1" strike="noStrike">
                <a:solidFill>
                  <a:srgbClr val="000000"/>
                </a:solidFill>
                <a:latin typeface="Courier New"/>
              </a:rPr>
              <a:t>                               2 | 35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1 | 2</a:t>
            </a:r>
            <a:r>
              <a:rPr b="1" lang="en-CA" sz="1500" spc="-1" strike="noStrike">
                <a:solidFill>
                  <a:srgbClr val="000000"/>
                </a:solidFill>
                <a:latin typeface="Courier New"/>
              </a:rPr>
              <a:t>                                4 | 6792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0 | 96</a:t>
            </a:r>
            <a:r>
              <a:rPr b="1" lang="en-CA" sz="1500" spc="-1" strike="noStrike">
                <a:solidFill>
                  <a:srgbClr val="000000"/>
                </a:solidFill>
                <a:latin typeface="Courier New"/>
              </a:rPr>
              <a:t>                               6 | 49224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0 | 444210 </a:t>
            </a:r>
            <a:r>
              <a:rPr b="1" lang="en-CA" sz="1500" spc="-1" strike="noStrike">
                <a:solidFill>
                  <a:srgbClr val="000000"/>
                </a:solidFill>
                <a:latin typeface="Courier New"/>
              </a:rPr>
              <a:t>                          8 | 022361257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0134                            10 | 125688234557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55555689                        12 | 034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00223334                        14 | 03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5566778                         16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00133                           18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9</a:t>
            </a:r>
            <a:endParaRPr b="0" lang="en-US" sz="15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800" spc="-1" strike="noStrike">
                <a:solidFill>
                  <a:srgbClr val="000000"/>
                </a:solidFill>
                <a:latin typeface="Arial"/>
              </a:rPr>
              <a:t>LHS has 23% losing money. Loss averaged over all those “days” is $1333</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EDAEAB1F-C8F1-4056-AFE1-009DF7E6831D}"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Issues</a:t>
            </a:r>
            <a:endParaRPr b="1" lang="en-US" sz="4100" spc="-1" strike="noStrike">
              <a:solidFill>
                <a:srgbClr val="f57900"/>
              </a:solidFill>
              <a:latin typeface="Bitstream Vera Sans"/>
            </a:endParaRPr>
          </a:p>
        </p:txBody>
      </p:sp>
      <p:sp>
        <p:nvSpPr>
          <p:cNvPr id="39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ospace fon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aling of “Stem” to get matching diagrams</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asier on paper!</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anual record</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pdateable over tim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ecords 2 digits of information (can be extended)</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See stembox.txt file.</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86DF85E0-C31D-4C8F-B9F3-B656A1AB204E}"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message</a:t>
            </a:r>
            <a:endParaRPr b="1" lang="en-US" sz="4100" spc="-1" strike="noStrike">
              <a:solidFill>
                <a:srgbClr val="f57900"/>
              </a:solidFill>
              <a:latin typeface="Bitstream Vera Sans"/>
            </a:endParaRPr>
          </a:p>
        </p:txBody>
      </p:sp>
      <p:sp>
        <p:nvSpPr>
          <p:cNvPr id="40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ools developed for the “lab” can be useful elsewher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In particular the “reproducible research” tools for preparing report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graphs to show us what we are dealing with when trying to “solve” problems – actually to discover what the real problem entails.</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5EC14A8-6E1D-4340-94A6-3CD5727EB365}" type="slidenum">
              <a:t>27</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onthly reports with changing data</a:t>
            </a:r>
            <a:endParaRPr b="1" lang="en-US" sz="4100" spc="-1" strike="noStrike">
              <a:solidFill>
                <a:srgbClr val="f57900"/>
              </a:solidFill>
              <a:latin typeface="Bitstream Vera Sans"/>
            </a:endParaRPr>
          </a:p>
        </p:txBody>
      </p:sp>
      <p:sp>
        <p:nvSpPr>
          <p:cNvPr id="33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ic idea: allow appropriate program code to be embedded in text processing documen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S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odf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thers? -- This is an important general idea for organizing and simplifying workflow.</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DE612450-17BD-41EF-AEF0-6B7F81481F34}"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Example – stock prices</a:t>
            </a:r>
            <a:endParaRPr b="1" lang="en-US" sz="4100" spc="-1" strike="noStrike">
              <a:solidFill>
                <a:srgbClr val="f57900"/>
              </a:solidFill>
              <a:latin typeface="Bitstream Vera Sans"/>
            </a:endParaRPr>
          </a:p>
        </p:txBody>
      </p:sp>
      <p:sp>
        <p:nvSpPr>
          <p:cNvPr id="33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for TSX for approximately last year (excep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u="sng">
                <a:solidFill>
                  <a:srgbClr val="000080"/>
                </a:solidFill>
                <a:uFillTx/>
                <a:latin typeface="Times New Roman"/>
              </a:rPr>
              <a:t>http://finance.yahoo.com/q/hp?s=^GSPTSE+Historical+Prices</a:t>
            </a:r>
            <a:endParaRPr b="0" lang="en-US" sz="2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Times New Roman"/>
              </a:rPr>
              <a:t>Actually used a different source – but then could not re-find it!</a:t>
            </a:r>
            <a:endParaRPr b="0" lang="en-US" sz="2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a report for a particular quarter specified by Year and Month in file </a:t>
            </a:r>
            <a:r>
              <a:rPr b="0" lang="en-CA" sz="3200" spc="-1" strike="noStrike">
                <a:solidFill>
                  <a:srgbClr val="000000"/>
                </a:solidFill>
                <a:latin typeface="Tlwg Typist"/>
              </a:rPr>
              <a:t>curr.txt</a:t>
            </a:r>
            <a:endParaRPr b="0" lang="en-US" sz="32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lwg Typist"/>
              </a:rPr>
              <a:t>         </a:t>
            </a:r>
            <a:r>
              <a:rPr b="0" lang="en-CA" sz="2400" spc="-1" strike="noStrike">
                <a:solidFill>
                  <a:srgbClr val="000000"/>
                </a:solidFill>
                <a:latin typeface="Tlwg Typist"/>
              </a:rPr>
              <a:t>2011</a:t>
            </a:r>
            <a:endParaRPr b="0" lang="en-US" sz="24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lwg Typist"/>
              </a:rPr>
              <a:t>               </a:t>
            </a:r>
            <a:r>
              <a:rPr b="0" lang="en-CA" sz="2400" spc="-1" strike="noStrike">
                <a:solidFill>
                  <a:srgbClr val="000000"/>
                </a:solidFill>
                <a:latin typeface="Tlwg Typist"/>
              </a:rPr>
              <a:t>3</a:t>
            </a:r>
            <a:endParaRPr b="0" lang="en-US" sz="2400" spc="-1" strike="noStrike">
              <a:solidFill>
                <a:srgbClr val="000000"/>
              </a:solidFill>
              <a:latin typeface="Times New Roman"/>
            </a:endParaRPr>
          </a:p>
        </p:txBody>
      </p:sp>
      <p:sp>
        <p:nvSpPr>
          <p:cNvPr id="4" name="PlaceHolder 3"/>
          <p:cNvSpPr>
            <a:spLocks noGrp="1"/>
          </p:cNvSpPr>
          <p:nvPr>
            <p:ph type="sldNum" idx="6"/>
          </p:nvPr>
        </p:nvSpPr>
        <p:spPr/>
        <p:txBody>
          <a:bodyPr/>
          <a:p>
            <a:fld id="{AB838657-B1C5-4A2A-BC1D-5150AFB06C90}"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3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or R, have two choic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pen/LibreOffice – odfWea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LaTEX – Sweave (F. Leis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oth part of the “Reproducible Research” initiative, where publications are generated DIRECTLY from the data and scripts. No cut-and-past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0B374E9-059B-44AA-B110-C115809E5503}"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04360" y="322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Files</a:t>
            </a:r>
            <a:endParaRPr b="1" lang="en-US" sz="4100" spc="-1" strike="noStrike">
              <a:solidFill>
                <a:srgbClr val="f57900"/>
              </a:solidFill>
              <a:latin typeface="Bitstream Vera Sans"/>
            </a:endParaRPr>
          </a:p>
        </p:txBody>
      </p:sp>
      <p:sp>
        <p:nvSpPr>
          <p:cNvPr id="340" name="PlaceHolder 2"/>
          <p:cNvSpPr>
            <a:spLocks noGrp="1"/>
          </p:cNvSpPr>
          <p:nvPr>
            <p:ph/>
          </p:nvPr>
        </p:nvSpPr>
        <p:spPr>
          <a:xfrm>
            <a:off x="502920" y="1767960"/>
            <a:ext cx="9070920" cy="520092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catseay.csv – stock index closing price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curr.txt  -- date at end of quarte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ript:  tmplot.R – R commands to carry out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ocument sour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odt – Open/LibreOffi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Rnw – essentially LaTEX</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both source documents have code chunk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DE4B5E3-A128-4FCB-8007-6732CC5EE62E}"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ode Chunks</a:t>
            </a:r>
            <a:endParaRPr b="1" lang="en-US" sz="4100" spc="-1" strike="noStrike">
              <a:solidFill>
                <a:srgbClr val="f57900"/>
              </a:solidFill>
              <a:latin typeface="Bitstream Vera Sans"/>
            </a:endParaRPr>
          </a:p>
        </p:txBody>
      </p:sp>
      <p:sp>
        <p:nvSpPr>
          <p:cNvPr id="342" name="PlaceHolder 2"/>
          <p:cNvSpPr>
            <a:spLocks noGrp="1"/>
          </p:cNvSpPr>
          <p:nvPr>
            <p:ph/>
          </p:nvPr>
        </p:nvSpPr>
        <p:spPr>
          <a:xfrm>
            <a:off x="502920" y="1768320"/>
            <a:ext cx="9070920" cy="4989600"/>
          </a:xfrm>
          <a:prstGeom prst="rect">
            <a:avLst/>
          </a:prstGeom>
          <a:noFill/>
          <a:ln w="0">
            <a:noFill/>
          </a:ln>
        </p:spPr>
        <p:txBody>
          <a:bodyPr lIns="0" rIns="0" tIns="23040" bIns="0" anchor="t">
            <a:normAutofit fontScale="94000"/>
          </a:bodyPr>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lt;&lt;myreport1, echo=FALSE, fig=TRUE, height=4, width=6&gt;&gt;=</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source("tmplot.R") # or the script contents</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a:t>
            </a:r>
            <a:endParaRPr b="0" lang="en-US" sz="26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structure used for both odfWeave and Sweave</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dfWeave is PATH-fussy; use absolute paths</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it needs an “old” version of R's XML package</a:t>
            </a:r>
            <a:endParaRPr b="0" lang="en-US" sz="3200" spc="-1" strike="noStrike">
              <a:solidFill>
                <a:srgbClr val="000000"/>
              </a:solidFill>
              <a:latin typeface="Times New Roman"/>
            </a:endParaRPr>
          </a:p>
          <a:p>
            <a:pPr lvl="1" marL="1623600" indent="-53856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XML_3.2-0.tar.gz   (current is 3.4-...)</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Linux libxml2-dev</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889F60A-B815-4527-95DF-7B4EB6D0BF7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Usage</a:t>
            </a:r>
            <a:endParaRPr b="1" lang="en-US" sz="4100" spc="-1" strike="noStrike">
              <a:solidFill>
                <a:srgbClr val="f57900"/>
              </a:solidFill>
              <a:latin typeface="Bitstream Vera Sans"/>
            </a:endParaRPr>
          </a:p>
        </p:txBody>
      </p:sp>
      <p:sp>
        <p:nvSpPr>
          <p:cNvPr id="344"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CMD Sweave myreport.Rnw</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pdflatex myreport.tex</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vince myreport.pdf</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r make a script  'slado'</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In R:      library(“odfweave”)</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              </a:t>
            </a:r>
            <a:r>
              <a:rPr b="0" lang="en-CA" sz="2600" spc="-1" strike="noStrike">
                <a:solidFill>
                  <a:srgbClr val="000000"/>
                </a:solidFill>
                <a:latin typeface="Times New Roman"/>
              </a:rPr>
              <a:t>result&lt;-odfweave(“MyReport.odt”, “MyOut.odt”)</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6"/>
          </p:nvPr>
        </p:nvSpPr>
        <p:spPr/>
        <p:txBody>
          <a:bodyPr/>
          <a:p>
            <a:fld id="{3621C0A6-6C4F-46D4-A24E-690FB0762175}"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athematical terrorism</a:t>
            </a:r>
            <a:endParaRPr b="1" lang="en-US" sz="4100" spc="-1" strike="noStrike">
              <a:solidFill>
                <a:srgbClr val="f57900"/>
              </a:solidFill>
              <a:latin typeface="Bitstream Vera Sans"/>
            </a:endParaRPr>
          </a:p>
        </p:txBody>
      </p:sp>
      <p:sp>
        <p:nvSpPr>
          <p:cNvPr id="3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ed on problem in Foreman Acton's “Numerical Methods that (usually) Work”, 197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PMA terrorists find a 1 mile section of welded rail that is pinned at each end. In one of the two rails (Stephenson gauge), they weld an extra foot of rail. If that rail bows away from its partner in a regular circular arc, how far apart are the rails at the widest point?</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57D30D7-B6BA-444D-819E-3683D9E43DE7}"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1:22:23Z</dcterms:created>
  <dc:creator>John </dc:creator>
  <dc:description/>
  <dc:language>en-US</dc:language>
  <cp:lastModifiedBy>John </cp:lastModifiedBy>
  <dcterms:modified xsi:type="dcterms:W3CDTF">2011-10-05T15:11:45Z</dcterms:modified>
  <cp:revision>38</cp:revision>
  <dc:subject/>
  <dc:title/>
</cp:coreProperties>
</file>